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16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D6D-A2F8-49E2-AA8E-25291C07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9D2-E9B2-475A-A49F-1436FA6E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266-FEE9-40BB-86C0-BE93BF4D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97A-64F5-4060-B845-E42486FC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090D-D1C0-4B62-9F0C-BF2C43EC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3246-3BA7-47EC-809C-7AF7926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151F-26F3-4323-829F-39B5059B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1845-0170-471B-A476-6EC8329F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0FF0-FD8C-4C5A-A836-883786FE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584E-E93E-4E48-A426-85C0E255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544E-7896-4984-84FF-0749417A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237-C7E7-42A3-A52C-59553B21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8215-9DF5-4AE1-B5B3-EEA7C14A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0E20-9FE4-4ADE-A793-53FCAD9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4A65-9C5D-43B6-ABF3-176BFB71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4488-700B-4389-8103-98C00FB0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2C54-6834-4956-B93B-738F9063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094-00E0-49CE-97F9-D8767D0C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832-0D33-4251-8F9E-55F20976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1FF-EC4C-4DEB-A9D1-5D0A7748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0F1-6FD6-44F7-8A65-41BBE510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D82-45E5-4189-A419-EC2262C7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B63-7CAA-4486-9EEB-53F303D5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5D1-252E-44AE-B755-9C0485C0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CEE5-D136-4265-96AC-65725891C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25BB-2DAA-4FE0-AFAB-3E1960978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лог на транспортные сред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84360" y="393372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659640" y="393372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572000" y="3914640"/>
            <a:ext cx="2087640" cy="15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80"/>
                </a:solidFill>
                <a:latin typeface="Tahoma"/>
              </a:rPr>
              <a:t>Катера, суда, буксиры, баржи, яхты (мощность двигателя в лошадиных силах)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3754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 160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ыше 160 по 5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ыше 500 по 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ыше 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427640" y="2276640"/>
            <a:ext cx="895320" cy="366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2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5,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1819080" cy="215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372360" y="4076640"/>
            <a:ext cx="2771640" cy="25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писок используемой литератур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в Казахстане: учебное пособие/ под ред. Сейдахметовой Ф.С.- Алматы, 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удяков А.И. Налоговое право РК.-Алматы: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декс Республики Казахстан «О налогах и других обязательных платежах в бюдже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онтрольные вопрос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субъекты не подлежат обложению налог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обенности применения став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числение уплаты нал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является плательщиком налога на транспортные сре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является объектом об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лан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ательщики налога и объекты его облож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ядок исчисления, сроки уплаты нал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80008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лательщиками налога на транспортные средства являютс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Юридические лица их филиалы представительства и иные обособленные структурные подразделения, имеющие объекты обложения на праве собственности, хозяйственного ведения или оперативного 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зические лица также имеющие объекты обложения на прав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0755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Не являются плательщиками налога на транспортные средства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тельщики единого земельного налога, пределы нормативов устанавливаются правительством Р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. учреждения по объектам обложения не используемые в предпринимательск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ники ВОВ и приравненные к ним лица, только по 1 транспортному сред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валиды по имеющимся в собственности мотоколяскам и автомобилям –по 1 автотранспортному сред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ои Советского Союза и Герои Социалистического Труда, многодетные матери, удостоенные звания «Мать героиня» по одному автотранспортному сред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Tahoma"/>
              </a:rPr>
              <a:t>Объектами налогообложения являютс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Транспортные средства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 исключением прицепов, подлежащие государственной регистрации и состоящие на учете в Республике Казахст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1862280" cy="13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732720" y="3429000"/>
            <a:ext cx="1942920" cy="145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859280" y="4869000"/>
            <a:ext cx="1873440" cy="135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е являются объектами налогообложе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ьерные автосамосвалы грузоподъемностью 40 тонн и вы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ециализированные медицинские транспортные сре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92720" y="4305240"/>
            <a:ext cx="3382920" cy="2075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208764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00000" y="333360"/>
            <a:ext cx="727416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Исчисление налога производится по следующим ставкам,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"/>
              </a:rPr>
              <a:t>установленным в месячных расчетных показателях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"/>
              <a:ea typeface="Gill Sans Ultra Bol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087280" cy="1751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2160360" cy="181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627280" y="155736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гковые автомобили с объемом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игателя (куб.см)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0" y="3429000"/>
            <a:ext cx="2125800" cy="40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логовая став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4437000"/>
            <a:ext cx="2305080" cy="21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1100 по 15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4005360"/>
            <a:ext cx="24004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 1100 включитель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4869000"/>
            <a:ext cx="21430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1500 по 2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5373720"/>
            <a:ext cx="21430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2000 по 25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5805360"/>
            <a:ext cx="2143080" cy="2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2500 по 3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6267600"/>
            <a:ext cx="2143080" cy="59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3000 по 4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ыше 40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308720" y="4076640"/>
            <a:ext cx="561960" cy="25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6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7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2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7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2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17,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втобусы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3394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до 12 посадочных мес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включитель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Свыше 12 по 25 посадочных мест включитель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Свыше 25 посадочных м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720" y="2133720"/>
            <a:ext cx="42840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,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140360" y="3645000"/>
            <a:ext cx="718920" cy="42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,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0360" y="5373720"/>
            <a:ext cx="718920" cy="42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,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32400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Мотоциклы, мотороллеры, мотосани, маломерные суда, мощность двигателя которых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3467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более 55 кВ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тоцикл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щность двигателя котор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вышает 55 кВ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140360" y="2060640"/>
            <a:ext cx="647640" cy="59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,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67280" y="5300640"/>
            <a:ext cx="720720" cy="615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,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816360" cy="24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29:21Z</dcterms:created>
  <dc:creator>User</dc:creator>
  <dc:description/>
  <dc:language>en-US</dc:language>
  <cp:lastModifiedBy>User</cp:lastModifiedBy>
  <dcterms:modified xsi:type="dcterms:W3CDTF">2008-11-19T16:15:06Z</dcterms:modified>
  <cp:revision>6</cp:revision>
  <dc:subject/>
  <dc:title>Налог на транспортные средства</dc:title>
</cp:coreProperties>
</file>